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DC59A-578D-46EB-BB39-0C42A33C6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CDDE5-294E-416A-AEA4-8723A510E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CEB94-DC8E-48F5-82A4-5A9E47118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34600-6190-4599-8A30-3D4E1A982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F4059-00DA-4A45-AF82-F76C607DD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0F000-DC92-4FBB-98B9-D0E9420F5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AF4EE-307F-40CC-9F64-D3DC3C602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13740-6058-485F-9C36-21A31B89E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2909E-1AD8-4149-8E09-BE8BE46E1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863D7-76AD-40EC-A5E5-00CE8A157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A25A7-49F1-4FD2-8FF8-BEC9767F7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660AF-B890-4E44-A9E1-C65AE029C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FF475-CDC5-46A0-808D-C65D4CA09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C7BCA-AE8E-4288-A9F8-1DD1062B4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10E76-2E5E-42F5-B74F-CB20A2702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408A7-E0D0-4C35-A7A3-8EEBC039C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596C7-71C1-4621-9378-62C041CDC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688962-81D1-4A65-B50D-015EA32B9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6580DE-ACF1-43BC-99B1-2549CD672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BF7961-12AE-4A66-A8E0-A91C7075F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485CB0-9BA7-4DE7-846B-8880BF776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769735-783D-4D00-952E-D31A642FE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2C54B-FBDA-4B5F-B834-706289C81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8A6586-B1B0-4658-A3BE-1983EA114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D7745D-D17A-4D03-ABDC-7FAC44FFD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35FD07-73DD-477A-B98B-D65FC0EF6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0D6CE9-CCB2-4939-8AB0-5467CFF6D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C8BB2D-3914-485D-AC37-BED2C30E7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29D1E5-225C-4F77-B119-31CAD558E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8D0BE0-B6F5-45F1-857A-BE0D0BDC7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1E163-F05B-45B0-83E8-D94A38246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CB619-058C-4A8A-ABB9-1C8B38F35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83B72-567B-4FF8-A8C6-670030241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64491-6BF8-4442-80BA-1D1A90BF1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4162D-FAB6-4BBB-8827-D27525856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A2922-4CBD-4826-AAE9-4F77742D8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05CDF-C39D-4659-9554-783282CCB5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42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6E631-9FF8-4C87-9CBD-BBEBBB9046D1}" type="slidenum">
              <a:rPr b="0" lang="de-DE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86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" name="PlaceHolder 1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D7A3D-8C05-424A-8AD5-44CC173B2CBE}" type="slidenum">
              <a:rPr b="0" lang="de-DE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REssy0y7v6I" TargetMode="External"/><Relationship Id="rId2" Type="http://schemas.openxmlformats.org/officeDocument/2006/relationships/hyperlink" Target="http://www.youtube.com/watch?v=REssy0y7v6I" TargetMode="External"/><Relationship Id="rId3" Type="http://schemas.openxmlformats.org/officeDocument/2006/relationships/hyperlink" Target="http://www.youtube.com/watch?v=REssy0y7v6I" TargetMode="External"/><Relationship Id="rId4" Type="http://schemas.openxmlformats.org/officeDocument/2006/relationships/hyperlink" Target="http://www.youtube.com/watch?v=REssy0y7v6I" TargetMode="External"/><Relationship Id="rId5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4000" y="115920"/>
            <a:ext cx="655164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6000" spc="-1" strike="noStrike" u="sng">
                <a:solidFill>
                  <a:srgbClr val="000000"/>
                </a:solidFill>
                <a:uFillTx/>
                <a:latin typeface="Bradley Hand ITC"/>
              </a:rPr>
              <a:t>Turke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1052640"/>
            <a:ext cx="9144000" cy="58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Tradi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de-DE" sz="3200" spc="-1" strike="noStrike">
                <a:solidFill>
                  <a:srgbClr val="ffffff"/>
                </a:solidFill>
                <a:latin typeface="Tahoma"/>
              </a:rPr>
              <a:t>they fast 1 month </a:t>
            </a:r>
            <a:r>
              <a:rPr b="0" lang="de-DE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de-DE" sz="3200" spc="-1" strike="noStrike">
                <a:solidFill>
                  <a:srgbClr val="ffffff"/>
                </a:solidFill>
                <a:latin typeface="Tahoma"/>
              </a:rPr>
              <a:t> Ramaza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de-DE" sz="3200" spc="-1" strike="noStrike">
                <a:solidFill>
                  <a:srgbClr val="ffffff"/>
                </a:solidFill>
                <a:latin typeface="Tahoma"/>
              </a:rPr>
              <a:t>They celebrate a ‘‘sugarparty‘‘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4067280" y="3141720"/>
            <a:ext cx="3695760" cy="27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cc"/>
                </a:solidFill>
                <a:latin typeface="Tahoma"/>
              </a:rPr>
              <a:t>Typical Custom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ahoma"/>
              </a:rPr>
              <a:t>the blue ey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de-DE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de-DE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de-DE" sz="3200" spc="-1" strike="noStrike">
                <a:solidFill>
                  <a:srgbClr val="ffffff"/>
                </a:solidFill>
                <a:latin typeface="Tahoma"/>
              </a:rPr>
              <a:t>symbol for protecting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5651640" y="2205000"/>
            <a:ext cx="3073320" cy="307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cc"/>
                </a:solidFill>
                <a:latin typeface="Tahoma"/>
              </a:rPr>
              <a:t>Behaviour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ahoma"/>
              </a:rPr>
              <a:t>very polit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ahoma"/>
              </a:rPr>
              <a:t>very hospitable ‘‘you come as a foreigner and leave as a friend‘‘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ahoma"/>
              </a:rPr>
              <a:t>they treat each other respectfull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Music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ahoma"/>
              </a:rPr>
              <a:t>traditional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ahoma"/>
              </a:rPr>
              <a:t>classic </a:t>
            </a:r>
            <a:r>
              <a:rPr b="0" lang="de-DE" sz="2800" spc="-1" strike="noStrike" u="sng">
                <a:solidFill>
                  <a:srgbClr val="ffcc66"/>
                </a:solidFill>
                <a:uFillTx/>
                <a:latin typeface="Tahoma"/>
                <a:hlinkClick r:id="rId1"/>
              </a:rPr>
              <a:t>http://</a:t>
            </a:r>
            <a:r>
              <a:rPr b="0" lang="de-DE" sz="2800" spc="-1" strike="noStrike" u="sng">
                <a:solidFill>
                  <a:srgbClr val="ffcc66"/>
                </a:solidFill>
                <a:uFillTx/>
                <a:latin typeface="Tahoma"/>
                <a:hlinkClick r:id="rId2"/>
              </a:rPr>
              <a:t>www.youtube.com</a:t>
            </a:r>
            <a:r>
              <a:rPr b="0" lang="de-DE" sz="2800" spc="-1" strike="noStrike" u="sng">
                <a:solidFill>
                  <a:srgbClr val="ffcc66"/>
                </a:solidFill>
                <a:uFillTx/>
                <a:latin typeface="Tahoma"/>
                <a:hlinkClick r:id="rId3"/>
              </a:rPr>
              <a:t>/watch?v=REssy0y7v6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ahoma"/>
              </a:rPr>
              <a:t>pop &amp; rock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ahoma"/>
              </a:rPr>
              <a:t>hip-hop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de-DE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de-DE" sz="2800" spc="-1" strike="noStrike">
                <a:solidFill>
                  <a:srgbClr val="ffffff"/>
                </a:solidFill>
                <a:latin typeface="Tahoma"/>
              </a:rPr>
              <a:t>language: Turkis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ahoma"/>
              </a:rPr>
              <a:t>http://www.youtube.com/watch?v=vRsyyBFcHYQ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"/>
          <p:cNvSpPr/>
          <p:nvPr/>
        </p:nvSpPr>
        <p:spPr>
          <a:xfrm>
            <a:off x="1177200" y="5661000"/>
            <a:ext cx="525564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cc66"/>
                </a:solidFill>
                <a:uFillTx/>
                <a:latin typeface="Verdana"/>
                <a:hlinkClick r:id="rId4"/>
              </a:rPr>
              <a:t>http://www.youtube.com/watch?v=REssy0y7v6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Food &amp; Drink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91440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2592360" cy="202752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7093080" y="1268280"/>
            <a:ext cx="1768320" cy="280836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>
            <a:off x="3348000" y="1557360"/>
            <a:ext cx="2716200" cy="188280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4"/>
          <a:stretch/>
        </p:blipFill>
        <p:spPr>
          <a:xfrm>
            <a:off x="3780000" y="4941720"/>
            <a:ext cx="2039760" cy="153036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5"/>
          <a:stretch/>
        </p:blipFill>
        <p:spPr>
          <a:xfrm>
            <a:off x="6804000" y="4437000"/>
            <a:ext cx="2136960" cy="213696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826920" y="4581360"/>
            <a:ext cx="2006640" cy="207648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324000" y="170028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Verdana"/>
              </a:rPr>
              <a:t>do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596360" y="98100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Verdana"/>
              </a:rPr>
              <a:t>Ra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796000" y="649116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Verdana"/>
              </a:rPr>
              <a:t>apple t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572000" y="4437000"/>
            <a:ext cx="9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Verdana"/>
              </a:rPr>
              <a:t>lok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5950080"/>
            <a:ext cx="144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Verdana"/>
              </a:rPr>
              <a:t>sigara böreg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203640" y="342900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Verdana"/>
              </a:rPr>
              <a:t>bakla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7:37:08Z</dcterms:created>
  <dc:creator>G.08.Haug.Sabrina</dc:creator>
  <dc:description/>
  <dc:language>en-US</dc:language>
  <cp:lastModifiedBy>g.08.haug.sabrina</cp:lastModifiedBy>
  <dcterms:modified xsi:type="dcterms:W3CDTF">2010-01-25T12:24:54Z</dcterms:modified>
  <cp:revision>9</cp:revision>
  <dc:subject/>
  <dc:title>Turkey</dc:title>
</cp:coreProperties>
</file>